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39B-ACAC-46AF-9B4E-9E444F68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5EC-216B-4518-A5AA-F936EECD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F4D5-021D-464B-8915-123B9912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F39-EA0F-4D28-B92D-48973F7C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37AD-30B2-453D-A1C8-EBA41209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25BB-51FE-4117-9411-53978812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7B8E-D74D-484E-AC05-0D9E56A1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BBA5-4691-482F-A732-488BC8BC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A245-A40D-47F2-B31A-9B0A3CC6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096B-92C1-4F80-8EAE-3784502D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101A-53CC-4A7E-8150-B2CEC787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7499-703F-43E2-B5C0-9E888CAC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84F5-660D-423D-BA61-B31222F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A6E5-3D39-4EC0-A49F-B6D03DFC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2F34-EBEA-4FF9-9C23-7FDB3B2F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00D3-91AE-4E5A-9067-297B081E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9F51-DA27-4AE4-B5C7-B737AE9E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841-3DD8-4283-89C9-F8FBF1A7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FC0-4368-4123-A5CB-0AD586EF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2A5-6FA1-4753-95D7-AFBCB107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096-577A-4CDB-B577-67C80808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E6D-A479-4E1E-9421-199DFCD7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51E-CBA9-4473-BD57-7869A5B6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924-2B28-45AA-BFC6-E9ADD763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298C-30BE-4AEC-917A-B1C05029833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2205-C6FF-418D-AAC2-F91C9DD8E63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lgebra 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7.4: Complex Frac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tober 1, 200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the fundamental principle to simplify complex fr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e division to simplify complex fr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 complex fra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omplex fraction is a fraction that has a fraction in the numerator or the denominator or both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½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x-1/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¾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-1/3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will be discussing two methods to simplify complex fr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mplifying complex fractions: method 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undamental principle states that the you can always multiply the numerator and the denominator by the same numb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ultiply the numerator and the denominator of the complex fraction by the LCD of all the fractions that appear within the numerator and the denominato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mplify the resulting rational expression, writing the expression in the lowest ter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hod 1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 +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2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y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1 +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2x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  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y)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2-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x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y+2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y-x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practice with Method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x+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x-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implifying complex fractions: Method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e the numerator and denominator as single fraction; rewrite them if necessar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vert the denominator and multiply, writing the result in the lowest term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hod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5/8 +1/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/9+1/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actice simplifying complex fractions: Method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y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    </a:t>
            </a:r>
            <a:r>
              <a:rPr b="0" lang="en-US" sz="800" spc="-1" strike="noStrike" u="sng">
                <a:solidFill>
                  <a:srgbClr val="eaeaea"/>
                </a:solidFill>
                <a:uFillTx/>
                <a:latin typeface="Arial"/>
              </a:rPr>
              <a:t>.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2x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9:47:09Z</dcterms:created>
  <dc:creator>nuhs</dc:creator>
  <dc:description/>
  <dc:language>en-US</dc:language>
  <cp:lastModifiedBy>nuhs</cp:lastModifiedBy>
  <dcterms:modified xsi:type="dcterms:W3CDTF">2007-10-01T20:23:04Z</dcterms:modified>
  <cp:revision>25</cp:revision>
  <dc:subject/>
  <dc:title>Algebra 2A</dc:title>
</cp:coreProperties>
</file>